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34A-6A8B-4819-B6FB-F4344098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075-552B-4848-91DD-85F493E1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AFC-3456-4406-A3F3-86FAB651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44D-4EEB-4EAB-971E-895BBA06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45B-73B4-4AF5-8EE7-7A320501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C1C-DA30-4A1D-929E-438024CE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14D-3F5B-4256-95F9-6307B888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BAC-24BF-4A9F-AF16-F836FB76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1C8-A812-41C2-A767-337EBCEC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7D4-0960-4E47-A6FB-44FC557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6EF-BF33-42C4-9E1B-0AF7F0CD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9DF-43E1-4A57-9310-933194CE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3508-30E2-40E6-954F-D5AA321366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cient Ch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hang Dyna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 and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9" descr="T025106A"/>
          <p:cNvPicPr/>
          <p:nvPr/>
        </p:nvPicPr>
        <p:blipFill>
          <a:blip r:embed="rId1"/>
          <a:stretch/>
        </p:blipFill>
        <p:spPr>
          <a:xfrm>
            <a:off x="380880" y="1808280"/>
            <a:ext cx="3878280" cy="215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pou"/>
          <p:cNvPicPr/>
          <p:nvPr/>
        </p:nvPicPr>
        <p:blipFill>
          <a:blip r:embed="rId2"/>
          <a:stretch/>
        </p:blipFill>
        <p:spPr>
          <a:xfrm>
            <a:off x="1442880" y="4216320"/>
            <a:ext cx="1668600" cy="2336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ical writing (columns from right to le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Perfected metal-ca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Produced some of the finest bronze objects ever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Ivory and jade carv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Wove and colored si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Excellent pottery makers (white cla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nd of the Sha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all of the Shang dynasty was much like that of the legendary Xia dynasty, the last king was a cruel tyra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ead of the people overthrowing the king, he was killed by a king from a rival kingdom, the Chou kingdom in 1000 B.C.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ou dynasty was part of the Shang kingdom; its civilization was a combination of the Shang culture and that of non-Chinese civiliza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** During the later dynasties (Qin- Ming, Chinese led the world in engineering, production, and technology)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he Shang Dynas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gration to the Yellow River Valle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rcheological evidence suggests that there were small agricultural settlements in the Chinese river valley as early as 4, 500 B.C.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Shang Dynasty dates from 1,700 B.C.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ike the river valleys of the Nile and the Fertile Crescent, the Huang He river valley invited early settle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3" descr="shang-map-large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64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eography of Ancient Ch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untains make up 1/3 of China’s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imalayas close off China to the southw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western boarder is closed off by the Kunlun Shan and Tian Shan ra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the east of these mountains lies the vast Gobi dese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ina’s coastline touches the Pacific Ocean, though not many of the early Chinese became seafar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7" descr="T028749A"/>
          <p:cNvPicPr/>
          <p:nvPr/>
        </p:nvPicPr>
        <p:blipFill>
          <a:blip r:embed="rId1"/>
          <a:stretch/>
        </p:blipFill>
        <p:spPr>
          <a:xfrm>
            <a:off x="152280" y="1936800"/>
            <a:ext cx="51055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uang He River Valle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38320" y="1447920"/>
            <a:ext cx="3505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282320" indent="-376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ee major rivers drain eastern Chin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97400" indent="-33948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ang He (Hwong huh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97400" indent="-33948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angt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97400" indent="-33948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 Jiang (Shee Jyan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ang He flows nearly 3,000 miles, from the northern highlands to the Yellow S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7" descr="T026208A"/>
          <p:cNvPicPr/>
          <p:nvPr/>
        </p:nvPicPr>
        <p:blipFill>
          <a:blip r:embed="rId1"/>
          <a:stretch/>
        </p:blipFill>
        <p:spPr>
          <a:xfrm>
            <a:off x="0" y="1828800"/>
            <a:ext cx="6629400" cy="3683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-151200" y="5791320"/>
            <a:ext cx="71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Huang He (Yellow River) is associated with great sorrow an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eat blessing. The floods produced by this river were oft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etely devastating, killing whole towns and cities of peopl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eography Affords Nationa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onalism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yalty and devotion to a nation;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special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 sense of national consciousness exalting one nation above all others and placing primary emphasis on promotion of its culture and interests as opposed to those of other na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the geography of China would help to foster nationalis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ling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archy and Dynas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hang dyansty was an aristocrastic society, with a king ruling over the military nobili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ritorial rulers were appointed by him in return for their support in his military campaigns. Underneath the aristocratic class was the priest clas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iests kept the records of the government and were also in charge of relig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wuding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5410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hang worshipped the "Shang Ti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od ruled as a supreme god over lesser gods, the sun, the moon, the wind, the rain, and other natural forces and pla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ly ritualized, ancestor worship became a part of the Shang relig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king served as chief priest (theocrati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crifice to the gods and the ancestors was also a major part of the Shang relig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a king died, hundreds of slaves and prisoners were often sacrificed and buried with him. People were also sacrificed in lower numbers when important events, such as the founding of a palace or temple, occur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6" descr="grurel64"/>
          <p:cNvPicPr/>
          <p:nvPr/>
        </p:nvPicPr>
        <p:blipFill>
          <a:blip r:embed="rId1"/>
          <a:stretch/>
        </p:blipFill>
        <p:spPr>
          <a:xfrm>
            <a:off x="6019920" y="1295280"/>
            <a:ext cx="2752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ese Myth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24280" y="19047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er the centuries, the Chinese have developed many myths to explain their remote p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ost famous myth is regarding the founding of China’s Xia Dynasty. No record has yet supported the existence of this dynasty, thus the Shang is the first official dynas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6" descr="moon_china_sm2"/>
          <p:cNvPicPr/>
          <p:nvPr/>
        </p:nvPicPr>
        <p:blipFill>
          <a:blip r:embed="rId1"/>
          <a:stretch/>
        </p:blipFill>
        <p:spPr>
          <a:xfrm>
            <a:off x="1066680" y="1981080"/>
            <a:ext cx="3429000" cy="3327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1355760" y="582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ops and Foo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dynasty was based on agriculture; millet, wheat, and barley were the primary crops grown. In addition to the crops, silkworms, pigs, dogs, sheep, and oxen were rais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7" descr="farming"/>
          <p:cNvPicPr/>
          <p:nvPr/>
        </p:nvPicPr>
        <p:blipFill>
          <a:blip r:embed="rId1"/>
          <a:stretch/>
        </p:blipFill>
        <p:spPr>
          <a:xfrm>
            <a:off x="1066680" y="1676520"/>
            <a:ext cx="335916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68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68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6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1:51:10Z</dcterms:created>
  <dc:creator>Erin Anderson</dc:creator>
  <dc:description/>
  <dc:language>en-US</dc:language>
  <cp:lastModifiedBy>mpstech</cp:lastModifiedBy>
  <dcterms:modified xsi:type="dcterms:W3CDTF">2014-09-08T14:19:38Z</dcterms:modified>
  <cp:revision>14</cp:revision>
  <dc:subject/>
  <dc:title>Ancient China</dc:title>
</cp:coreProperties>
</file>